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CCE81AD-EF3D-4EE1-B9ED-4349CFFBBB6D}" type="slidenum">
              <a:rPr b="0" lang="en-GB" sz="12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44240" y="253800"/>
            <a:ext cx="39733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2000"/>
              </a:lnSpc>
              <a:spcBef>
                <a:spcPts val="3801"/>
              </a:spcBef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4240" y="5622480"/>
            <a:ext cx="397332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2480400" y="181584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424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480400" y="5622480"/>
            <a:ext cx="193896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78776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130920" y="181584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4424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178776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130920" y="5622480"/>
            <a:ext cx="1279080" cy="3476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spcBef>
                <a:spcPts val="38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44600" y="3924360"/>
            <a:ext cx="926928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44600" y="1028880"/>
            <a:ext cx="926928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6540120" y="1815840"/>
            <a:ext cx="3173400" cy="881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618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444600" y="672840"/>
            <a:ext cx="9269280" cy="850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56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56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444240" y="3924360"/>
            <a:ext cx="3973320" cy="2819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47474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title"/>
          </p:nvPr>
        </p:nvSpPr>
        <p:spPr>
          <a:xfrm>
            <a:off x="444240" y="1028880"/>
            <a:ext cx="3973320" cy="2474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44600" y="2895480"/>
            <a:ext cx="9269280" cy="1827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926928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4600" y="1815840"/>
            <a:ext cx="9269280" cy="6678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44240" y="1815840"/>
            <a:ext cx="3973320" cy="72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2" marL="8492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3" marL="1192320" indent="-2034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4" marL="1535040" indent="-20160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5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6" marL="1535040" indent="-201600">
              <a:lnSpc>
                <a:spcPct val="112000"/>
              </a:lnSpc>
              <a:spcBef>
                <a:spcPts val="3801"/>
              </a:spcBef>
              <a:buClr>
                <a:srgbClr val="000000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19800" cy="133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133680" y="6616800"/>
            <a:ext cx="3871800" cy="3124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Click to edit the outline text format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con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ird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our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999999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Fif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ix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Seventh Outline Level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343080" y="6883560"/>
            <a:ext cx="6449760" cy="1993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1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1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2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3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4">
              <a:lnSpc>
                <a:spcPct val="112000"/>
              </a:lnSpc>
              <a:buClr>
                <a:srgbClr val="727272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5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  <a:p>
            <a:pPr lvl="6">
              <a:lnSpc>
                <a:spcPct val="112000"/>
              </a:lnSpc>
              <a:buClr>
                <a:srgbClr val="000000"/>
              </a:buClr>
              <a:buFont typeface="Helvetica Neue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400" spc="-1" strike="noStrike">
                <a:solidFill>
                  <a:srgbClr val="727272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727272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Software%20and%20Data/Data%20Set.xls" TargetMode="External"/><Relationship Id="rId2" Type="http://schemas.openxmlformats.org/officeDocument/2006/relationships/hyperlink" Target="file:///Software%20and%20Data/equator.jar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507960" y="3708360"/>
            <a:ext cx="9144000" cy="180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4240" y="102852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Keeping the Pizza Ho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44240" y="3924000"/>
            <a:ext cx="927108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King’s College London mathematics projec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funded by the Bowland Trust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4514760" y="1917720"/>
            <a:ext cx="6415200" cy="59054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The Pizza Shop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A new pizza shop is being opened which will sell pizza for home delivery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wants lots of customers to make a good profit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5089680" y="2286000"/>
            <a:ext cx="5146560" cy="54100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 pizzas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home delivery pizza market is very competitive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Customers will have to like the product, but have other demands too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y may be concerned about speed of delivery and they will be concerned about the condition in which the pizza arrive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-114480" y="92160"/>
            <a:ext cx="10858680" cy="577044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5892840" y="6234120"/>
            <a:ext cx="1440" cy="111276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104480" y="6083280"/>
            <a:ext cx="45212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121440" y="6273720"/>
            <a:ext cx="3873600" cy="992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99999"/>
                </a:solidFill>
                <a:latin typeface="Helvetica Neue"/>
              </a:rPr>
              <a:t>The scooters get the pizza to the customer very fast, but is it still good to eat?</a:t>
            </a:r>
            <a:endParaRPr b="0" lang="en-US" sz="2000" spc="-1" strike="noStrike">
              <a:solidFill>
                <a:srgbClr val="999999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44600" y="253800"/>
            <a:ext cx="3975120" cy="1091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Home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513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Pizza packaging is big business and there are lots of different types to choose from if you run a pizza business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izzas have to be kept safe and warm on their way to the customer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2"/>
          <a:stretch/>
        </p:blipFill>
        <p:spPr>
          <a:xfrm>
            <a:off x="4973760" y="1428840"/>
            <a:ext cx="5427720" cy="62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4876920" y="1405080"/>
            <a:ext cx="5222880" cy="629892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3975120" cy="1092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 Light"/>
              </a:rPr>
              <a:t>Quality on delivery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44600" y="1816200"/>
            <a:ext cx="3975120" cy="484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01600" indent="-201600">
              <a:lnSpc>
                <a:spcPct val="100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If the pizza arrives cold then this customer will look elsewhere!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THE PROBLEM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201600" indent="-2016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747474"/>
                </a:solidFill>
                <a:latin typeface="Helvetica Neue"/>
              </a:rPr>
              <a:t>You have been contracted as consultants to the business to help answer the problem: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large an area can the business deliver its pizzas to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lvl="1" marL="506520" indent="-203400">
              <a:lnSpc>
                <a:spcPct val="100000"/>
              </a:lnSpc>
              <a:spcBef>
                <a:spcPts val="1536"/>
              </a:spcBef>
              <a:buClr>
                <a:srgbClr val="747474"/>
              </a:buClr>
              <a:buFont typeface="Helvetica Neue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Helvetica Neue"/>
              </a:rPr>
              <a:t>How can the pizza shop maximise its potential customer base?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5079960" cy="762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44240" y="253800"/>
            <a:ext cx="3973320" cy="1090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elvetica Neue Light"/>
              </a:rPr>
              <a:t>The Experiment</a:t>
            </a:r>
            <a:endParaRPr b="0" lang="en-US" sz="3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44240" y="1816200"/>
            <a:ext cx="3973320" cy="580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Watch videos of the experiment being conducted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experiment with silver foil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Detailed experiment graph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The taste tes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1"/>
              </a:rPr>
              <a:t>Ope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a complete data set in Excel format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  <a:p>
            <a:pPr marL="380880" indent="-380880">
              <a:lnSpc>
                <a:spcPct val="112000"/>
              </a:lnSpc>
              <a:spcBef>
                <a:spcPts val="3801"/>
              </a:spcBef>
              <a:buClr>
                <a:srgbClr val="747474"/>
              </a:buClr>
              <a:buFont typeface="Helvetica Neue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Helvetica Neue"/>
                <a:hlinkClick r:id="rId2"/>
              </a:rPr>
              <a:t>Run</a:t>
            </a:r>
            <a:r>
              <a:rPr b="0" lang="en-GB" sz="2000" spc="-1" strike="noStrike">
                <a:solidFill>
                  <a:srgbClr val="747474"/>
                </a:solidFill>
                <a:latin typeface="Helvetica Neue"/>
              </a:rPr>
              <a:t> Equator software.</a:t>
            </a:r>
            <a:endParaRPr b="0" lang="en-US" sz="2000" spc="-1" strike="noStrike">
              <a:solidFill>
                <a:srgbClr val="747474"/>
              </a:solidFill>
              <a:latin typeface="Helvetica Neue"/>
            </a:endParaRPr>
          </a:p>
        </p:txBody>
      </p:sp>
      <p:sp>
        <p:nvSpPr>
          <p:cNvPr id="749" name=""/>
          <p:cNvSpPr/>
          <p:nvPr/>
        </p:nvSpPr>
        <p:spPr>
          <a:xfrm>
            <a:off x="507960" y="1536840"/>
            <a:ext cx="3809880" cy="1440"/>
          </a:xfrm>
          <a:prstGeom prst="line">
            <a:avLst/>
          </a:prstGeom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5654520" y="1292400"/>
            <a:ext cx="3870360" cy="575928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359240" y="309096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2" name=""/>
          <p:cNvSpPr/>
          <p:nvPr/>
        </p:nvSpPr>
        <p:spPr>
          <a:xfrm>
            <a:off x="4359240" y="467532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  <p:sp>
        <p:nvSpPr>
          <p:cNvPr id="753" name=""/>
          <p:cNvSpPr/>
          <p:nvPr/>
        </p:nvSpPr>
        <p:spPr>
          <a:xfrm>
            <a:off x="4359240" y="3954600"/>
            <a:ext cx="216000" cy="215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 Olley</cp:lastModifiedBy>
  <dcterms:modified xsi:type="dcterms:W3CDTF">2008-04-03T08:12:11Z</dcterms:modified>
  <cp:revision>11</cp:revision>
  <dc:subject/>
  <dc:title>Keeping the Pizza Hot</dc:title>
</cp:coreProperties>
</file>