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7501D2-97EC-4D07-B4E3-B0A8F7F5A3F3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4600" y="3924360"/>
            <a:ext cx="926928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44600" y="1028880"/>
            <a:ext cx="926928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540120" y="1815840"/>
            <a:ext cx="3173400" cy="881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618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444600" y="672840"/>
            <a:ext cx="9269280" cy="850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444240" y="3924360"/>
            <a:ext cx="397332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44240" y="1028880"/>
            <a:ext cx="397332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4600" y="2895480"/>
            <a:ext cx="9269280" cy="18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19800" cy="133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133680" y="6616800"/>
            <a:ext cx="3871800" cy="312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oftware%20and%20Data/Data%20Set.xls" TargetMode="External"/><Relationship Id="rId2" Type="http://schemas.openxmlformats.org/officeDocument/2006/relationships/hyperlink" Target="file:///Software%20and%20Data/equator.jar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507960" y="3708360"/>
            <a:ext cx="9144000" cy="180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4240" y="102852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Keeping the Pizza Ho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44240" y="392400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King’s College London mathematics projec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unded by the Bowland Trus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514760" y="1917720"/>
            <a:ext cx="6415200" cy="5905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The Pizza Shop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new pizza shop is being opened which will sell pizza for home delivery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wants lots of customers to make a good profit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5089680" y="2286000"/>
            <a:ext cx="5146560" cy="54100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 pizza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home delivery pizza market is very competitive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ustomers will have to like the product, but have other demands too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may be concerned about speed of delivery and they will be concerned about the condition in which the pizza arrive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-114480" y="92160"/>
            <a:ext cx="10858680" cy="57704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892840" y="6234120"/>
            <a:ext cx="1440" cy="111276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212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121440" y="6273720"/>
            <a:ext cx="3873600" cy="992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e scooters get the pizza to the customer very fast, but is it still good to eat?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Pizza packaging is big business and there are lots of different types to choose from if you run a pizza busines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izzas have to be kept safe and warm on their way to the customer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4973760" y="1428840"/>
            <a:ext cx="54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876920" y="1405080"/>
            <a:ext cx="5222880" cy="62989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975120" cy="1092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Quality on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484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If the pizza arrives cold then this customer will look elsewhere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ROBLEM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You have been contracted as consultants to the business to help answer the problem: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large an area can the business deliver its pizzas to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can the pizza shop maximise its potential customer base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5079960" cy="76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Neue Light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4240" y="1816200"/>
            <a:ext cx="3973320" cy="58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Watch videos of the experiment being conducted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experiment with silver foil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Detailed experiment graph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taste tes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1"/>
              </a:rPr>
              <a:t>Ope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a complete data set in Excel forma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2"/>
              </a:rPr>
              <a:t>Ru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Equator software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9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654520" y="1292400"/>
            <a:ext cx="3870360" cy="5759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359240" y="309096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4359240" y="467532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4359240" y="395460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Olley</cp:lastModifiedBy>
  <dcterms:modified xsi:type="dcterms:W3CDTF">2008-04-03T08:12:11Z</dcterms:modified>
  <cp:revision>11</cp:revision>
  <dc:subject/>
  <dc:title>Keeping the Pizza Hot</dc:title>
</cp:coreProperties>
</file>