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E42F75-B889-4DEA-98BD-DDD77D241F55}" type="slidenum"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44600" y="3924360"/>
            <a:ext cx="9269280" cy="2819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44600" y="1028880"/>
            <a:ext cx="9269280" cy="2474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 marL="8492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 marL="11923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 marL="15350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444600" y="253800"/>
            <a:ext cx="926928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6540120" y="1815840"/>
            <a:ext cx="3173400" cy="8813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 marL="8618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 marL="11923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 marL="15350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444600" y="253800"/>
            <a:ext cx="926928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444600" y="672840"/>
            <a:ext cx="9269280" cy="850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12000"/>
              </a:lnSpc>
              <a:spcBef>
                <a:spcPts val="56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12000"/>
              </a:lnSpc>
              <a:spcBef>
                <a:spcPts val="56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 marL="849240" indent="-201600">
              <a:lnSpc>
                <a:spcPct val="112000"/>
              </a:lnSpc>
              <a:spcBef>
                <a:spcPts val="56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 marL="1192320" indent="-203400">
              <a:lnSpc>
                <a:spcPct val="112000"/>
              </a:lnSpc>
              <a:spcBef>
                <a:spcPts val="56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 marL="1535040" indent="-201600">
              <a:lnSpc>
                <a:spcPct val="112000"/>
              </a:lnSpc>
              <a:spcBef>
                <a:spcPts val="56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 marL="1535040" indent="-201600">
              <a:lnSpc>
                <a:spcPct val="112000"/>
              </a:lnSpc>
              <a:spcBef>
                <a:spcPts val="56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 marL="1535040" indent="-201600">
              <a:lnSpc>
                <a:spcPct val="112000"/>
              </a:lnSpc>
              <a:spcBef>
                <a:spcPts val="56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44600" y="253800"/>
            <a:ext cx="926928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444600" y="1815840"/>
            <a:ext cx="9269280" cy="6678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 marL="8492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 marL="11923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 marL="15350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444600" y="253800"/>
            <a:ext cx="926928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body"/>
          </p:nvPr>
        </p:nvSpPr>
        <p:spPr>
          <a:xfrm>
            <a:off x="444240" y="3924360"/>
            <a:ext cx="3973320" cy="2819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title"/>
          </p:nvPr>
        </p:nvSpPr>
        <p:spPr>
          <a:xfrm>
            <a:off x="444240" y="1028880"/>
            <a:ext cx="3973320" cy="2474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44600" y="2895480"/>
            <a:ext cx="9269280" cy="18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44600" y="253800"/>
            <a:ext cx="926928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44600" y="1815840"/>
            <a:ext cx="9269280" cy="6678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 marL="8492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 marL="11923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 marL="15350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 marL="8492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 marL="11923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 marL="15350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04480" y="6083280"/>
            <a:ext cx="4519800" cy="1332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133680" y="6616800"/>
            <a:ext cx="3871800" cy="312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Software%20and%20Data/Data%20Set.xls" TargetMode="External"/><Relationship Id="rId2" Type="http://schemas.openxmlformats.org/officeDocument/2006/relationships/hyperlink" Target="file:///Software%20and%20Data/equator.jar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507960" y="3708360"/>
            <a:ext cx="9144000" cy="180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44240" y="1028520"/>
            <a:ext cx="9271080" cy="247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Keeping the Pizza Ho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44240" y="3924000"/>
            <a:ext cx="9271080" cy="247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A King’s College London mathematics projec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unded by the Bowland Trus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4514760" y="1917720"/>
            <a:ext cx="6415200" cy="590544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507960" y="1536840"/>
            <a:ext cx="3809880" cy="144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44600" y="253800"/>
            <a:ext cx="39751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The Pizza Shop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44600" y="1816200"/>
            <a:ext cx="3975120" cy="513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A new pizza shop is being opened which will sell pizza for home delivery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ey wants lots of customers to make a good profit!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5089680" y="2286000"/>
            <a:ext cx="5146560" cy="541008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507960" y="1536840"/>
            <a:ext cx="3809880" cy="144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44600" y="253800"/>
            <a:ext cx="39751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Home delivery pizzas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44600" y="1816200"/>
            <a:ext cx="3975120" cy="513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e home delivery pizza market is very competitive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ustomers will have to like the product, but have other demands too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ey may be concerned about speed of delivery and they will be concerned about the condition in which the pizza arrives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" descr=""/>
          <p:cNvPicPr/>
          <p:nvPr/>
        </p:nvPicPr>
        <p:blipFill>
          <a:blip r:embed="rId1"/>
          <a:stretch/>
        </p:blipFill>
        <p:spPr>
          <a:xfrm>
            <a:off x="-114480" y="92160"/>
            <a:ext cx="10858680" cy="577044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5892840" y="6234120"/>
            <a:ext cx="1440" cy="111276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104480" y="6083280"/>
            <a:ext cx="45212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121440" y="6273720"/>
            <a:ext cx="3873600" cy="992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The scooters get the pizza to the customer very fast, but is it still good to eat?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507960" y="1536840"/>
            <a:ext cx="3809880" cy="144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44600" y="253800"/>
            <a:ext cx="39751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Home delivery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44600" y="1816200"/>
            <a:ext cx="3975120" cy="513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Pizza packaging is big business and there are lots of different types to choose from if you run a pizza business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e pizzas have to be kept safe and warm on their way to the customer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2"/>
          <a:stretch/>
        </p:blipFill>
        <p:spPr>
          <a:xfrm>
            <a:off x="4973760" y="1428840"/>
            <a:ext cx="5427720" cy="623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4876920" y="1405080"/>
            <a:ext cx="5222880" cy="629892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507960" y="1536840"/>
            <a:ext cx="3809880" cy="144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3975120" cy="1092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Quality on delivery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44600" y="1816200"/>
            <a:ext cx="3975120" cy="484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If the pizza arrives cold then this customer will look elsewhere!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01600" indent="-201600">
              <a:lnSpc>
                <a:spcPct val="100000"/>
              </a:lnSpc>
              <a:spcBef>
                <a:spcPts val="1536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E PROBLEM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01600" indent="-201600">
              <a:lnSpc>
                <a:spcPct val="100000"/>
              </a:lnSpc>
              <a:spcBef>
                <a:spcPts val="1536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You have been contracted as consultants to the business to help answer the problem: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00000"/>
              </a:lnSpc>
              <a:spcBef>
                <a:spcPts val="1536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Helvetica Neue"/>
              </a:rPr>
              <a:t>How large an area can the business deliver its pizzas to?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00000"/>
              </a:lnSpc>
              <a:spcBef>
                <a:spcPts val="1536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Helvetica Neue"/>
              </a:rPr>
              <a:t>How can the pizza shop maximise its potential customer base?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0" y="0"/>
            <a:ext cx="5079960" cy="762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Helvetica Neue Light"/>
              </a:rPr>
              <a:t>The Experimen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44240" y="1816200"/>
            <a:ext cx="3973320" cy="580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80880" indent="-38088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747474"/>
                </a:solidFill>
                <a:latin typeface="Helvetica Neue"/>
              </a:rPr>
              <a:t>Watch videos of the experiment being conducted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380880" indent="-38088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747474"/>
                </a:solidFill>
                <a:latin typeface="Helvetica Neue"/>
              </a:rPr>
              <a:t>The experiment with silver foil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380880" indent="-38088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747474"/>
                </a:solidFill>
                <a:latin typeface="Helvetica Neue"/>
              </a:rPr>
              <a:t>Detailed experiment graph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380880" indent="-38088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747474"/>
                </a:solidFill>
                <a:latin typeface="Helvetica Neue"/>
              </a:rPr>
              <a:t>The taste test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380880" indent="-38088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Helvetica Neue"/>
                <a:hlinkClick r:id="rId1"/>
              </a:rPr>
              <a:t>Open</a:t>
            </a:r>
            <a:r>
              <a:rPr b="0" lang="en-GB" sz="2000" spc="-1" strike="noStrike">
                <a:solidFill>
                  <a:srgbClr val="747474"/>
                </a:solidFill>
                <a:latin typeface="Helvetica Neue"/>
              </a:rPr>
              <a:t> a complete data set in Excel format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380880" indent="-38088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Helvetica Neue"/>
                <a:hlinkClick r:id="rId2"/>
              </a:rPr>
              <a:t>Run</a:t>
            </a:r>
            <a:r>
              <a:rPr b="0" lang="en-GB" sz="2000" spc="-1" strike="noStrike">
                <a:solidFill>
                  <a:srgbClr val="747474"/>
                </a:solidFill>
                <a:latin typeface="Helvetica Neue"/>
              </a:rPr>
              <a:t> Equator software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49" name=""/>
          <p:cNvSpPr/>
          <p:nvPr/>
        </p:nvSpPr>
        <p:spPr>
          <a:xfrm>
            <a:off x="507960" y="1536840"/>
            <a:ext cx="3809880" cy="144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3"/>
          <a:stretch/>
        </p:blipFill>
        <p:spPr>
          <a:xfrm>
            <a:off x="5654520" y="1292400"/>
            <a:ext cx="3870360" cy="575928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4359240" y="3090960"/>
            <a:ext cx="216000" cy="215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2" name=""/>
          <p:cNvSpPr/>
          <p:nvPr/>
        </p:nvSpPr>
        <p:spPr>
          <a:xfrm>
            <a:off x="4359240" y="4675320"/>
            <a:ext cx="216000" cy="215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"/>
          <p:cNvSpPr/>
          <p:nvPr/>
        </p:nvSpPr>
        <p:spPr>
          <a:xfrm>
            <a:off x="4359240" y="3954600"/>
            <a:ext cx="216000" cy="215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 Olley</cp:lastModifiedBy>
  <dcterms:modified xsi:type="dcterms:W3CDTF">2008-04-03T08:12:11Z</dcterms:modified>
  <cp:revision>11</cp:revision>
  <dc:subject/>
  <dc:title>Keeping the Pizza Hot</dc:title>
</cp:coreProperties>
</file>