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Helvetica Neue Light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Helvetica Neue Ligh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Helvetica Neue Light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CCC2F86-4705-4C9A-9D14-FB7130435FF5}" type="slidenum">
              <a:rPr b="0" lang="en-GB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08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09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44600" y="3924360"/>
            <a:ext cx="9269280" cy="2819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1">
              <a:lnSpc>
                <a:spcPct val="112000"/>
              </a:lnSpc>
              <a:buClr>
                <a:srgbClr val="747474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2">
              <a:lnSpc>
                <a:spcPct val="112000"/>
              </a:lnSpc>
              <a:buClr>
                <a:srgbClr val="747474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3">
              <a:lnSpc>
                <a:spcPct val="112000"/>
              </a:lnSpc>
              <a:buClr>
                <a:srgbClr val="747474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4">
              <a:lnSpc>
                <a:spcPct val="112000"/>
              </a:lnSpc>
              <a:buClr>
                <a:srgbClr val="747474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5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6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44600" y="1028880"/>
            <a:ext cx="9269280" cy="2474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343080" y="6883560"/>
            <a:ext cx="6449760" cy="1993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1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2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3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4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5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6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0160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1" marL="506520" indent="-2034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2" marL="84924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3" marL="1192320" indent="-2034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4" marL="153504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5" marL="1535040" indent="-201600">
              <a:lnSpc>
                <a:spcPct val="112000"/>
              </a:lnSpc>
              <a:spcBef>
                <a:spcPts val="3801"/>
              </a:spcBef>
              <a:buClr>
                <a:srgbClr val="000000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6" marL="1535040" indent="-201600">
              <a:lnSpc>
                <a:spcPct val="112000"/>
              </a:lnSpc>
              <a:spcBef>
                <a:spcPts val="3801"/>
              </a:spcBef>
              <a:buClr>
                <a:srgbClr val="000000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title"/>
          </p:nvPr>
        </p:nvSpPr>
        <p:spPr>
          <a:xfrm>
            <a:off x="444600" y="253800"/>
            <a:ext cx="926928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body"/>
          </p:nvPr>
        </p:nvSpPr>
        <p:spPr>
          <a:xfrm>
            <a:off x="6540120" y="1815840"/>
            <a:ext cx="3173400" cy="8813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0160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1" marL="506520" indent="-2034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2" marL="86184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3" marL="1192320" indent="-2034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4" marL="153504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5" marL="1535040" indent="-201600">
              <a:lnSpc>
                <a:spcPct val="112000"/>
              </a:lnSpc>
              <a:spcBef>
                <a:spcPts val="3801"/>
              </a:spcBef>
              <a:buClr>
                <a:srgbClr val="000000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6" marL="1535040" indent="-201600">
              <a:lnSpc>
                <a:spcPct val="112000"/>
              </a:lnSpc>
              <a:spcBef>
                <a:spcPts val="3801"/>
              </a:spcBef>
              <a:buClr>
                <a:srgbClr val="000000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title"/>
          </p:nvPr>
        </p:nvSpPr>
        <p:spPr>
          <a:xfrm>
            <a:off x="444600" y="253800"/>
            <a:ext cx="926928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body"/>
          </p:nvPr>
        </p:nvSpPr>
        <p:spPr>
          <a:xfrm>
            <a:off x="444600" y="672840"/>
            <a:ext cx="9269280" cy="850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01600" indent="-201600">
              <a:lnSpc>
                <a:spcPct val="112000"/>
              </a:lnSpc>
              <a:spcBef>
                <a:spcPts val="56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1" marL="506520" indent="-203400">
              <a:lnSpc>
                <a:spcPct val="112000"/>
              </a:lnSpc>
              <a:spcBef>
                <a:spcPts val="56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2" marL="849240" indent="-201600">
              <a:lnSpc>
                <a:spcPct val="112000"/>
              </a:lnSpc>
              <a:spcBef>
                <a:spcPts val="56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3" marL="1192320" indent="-203400">
              <a:lnSpc>
                <a:spcPct val="112000"/>
              </a:lnSpc>
              <a:spcBef>
                <a:spcPts val="56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4" marL="1535040" indent="-201600">
              <a:lnSpc>
                <a:spcPct val="112000"/>
              </a:lnSpc>
              <a:spcBef>
                <a:spcPts val="56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5" marL="1535040" indent="-201600">
              <a:lnSpc>
                <a:spcPct val="112000"/>
              </a:lnSpc>
              <a:spcBef>
                <a:spcPts val="5601"/>
              </a:spcBef>
              <a:buClr>
                <a:srgbClr val="000000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6" marL="1535040" indent="-201600">
              <a:lnSpc>
                <a:spcPct val="112000"/>
              </a:lnSpc>
              <a:spcBef>
                <a:spcPts val="5601"/>
              </a:spcBef>
              <a:buClr>
                <a:srgbClr val="000000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44600" y="253800"/>
            <a:ext cx="926928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444600" y="1815840"/>
            <a:ext cx="9269280" cy="6678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0160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1" marL="506520" indent="-2034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2" marL="84924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3" marL="1192320" indent="-2034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4" marL="153504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5" marL="1535040" indent="-201600">
              <a:lnSpc>
                <a:spcPct val="112000"/>
              </a:lnSpc>
              <a:spcBef>
                <a:spcPts val="3801"/>
              </a:spcBef>
              <a:buClr>
                <a:srgbClr val="000000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6" marL="1535040" indent="-201600">
              <a:lnSpc>
                <a:spcPct val="112000"/>
              </a:lnSpc>
              <a:spcBef>
                <a:spcPts val="3801"/>
              </a:spcBef>
              <a:buClr>
                <a:srgbClr val="000000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444600" y="253800"/>
            <a:ext cx="926928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body"/>
          </p:nvPr>
        </p:nvSpPr>
        <p:spPr>
          <a:xfrm>
            <a:off x="444240" y="3924360"/>
            <a:ext cx="3973320" cy="2819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1">
              <a:lnSpc>
                <a:spcPct val="112000"/>
              </a:lnSpc>
              <a:buClr>
                <a:srgbClr val="747474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2">
              <a:lnSpc>
                <a:spcPct val="112000"/>
              </a:lnSpc>
              <a:buClr>
                <a:srgbClr val="747474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3">
              <a:lnSpc>
                <a:spcPct val="112000"/>
              </a:lnSpc>
              <a:buClr>
                <a:srgbClr val="747474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4">
              <a:lnSpc>
                <a:spcPct val="112000"/>
              </a:lnSpc>
              <a:buClr>
                <a:srgbClr val="747474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5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6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title"/>
          </p:nvPr>
        </p:nvSpPr>
        <p:spPr>
          <a:xfrm>
            <a:off x="444240" y="1028880"/>
            <a:ext cx="3973320" cy="2474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body"/>
          </p:nvPr>
        </p:nvSpPr>
        <p:spPr>
          <a:xfrm>
            <a:off x="343080" y="6883560"/>
            <a:ext cx="6449760" cy="1993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1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2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3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4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5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6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44600" y="2895480"/>
            <a:ext cx="9269280" cy="18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44600" y="253800"/>
            <a:ext cx="926928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44600" y="1815840"/>
            <a:ext cx="9269280" cy="6678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0160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1" marL="506520" indent="-2034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2" marL="84924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3" marL="1192320" indent="-2034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4" marL="153504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5" marL="1535040" indent="-201600">
              <a:lnSpc>
                <a:spcPct val="112000"/>
              </a:lnSpc>
              <a:spcBef>
                <a:spcPts val="3801"/>
              </a:spcBef>
              <a:buClr>
                <a:srgbClr val="000000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6" marL="1535040" indent="-201600">
              <a:lnSpc>
                <a:spcPct val="112000"/>
              </a:lnSpc>
              <a:spcBef>
                <a:spcPts val="3801"/>
              </a:spcBef>
              <a:buClr>
                <a:srgbClr val="000000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0160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1" marL="506520" indent="-2034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2" marL="84924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3" marL="1192320" indent="-2034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4" marL="153504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5" marL="1535040" indent="-201600">
              <a:lnSpc>
                <a:spcPct val="112000"/>
              </a:lnSpc>
              <a:spcBef>
                <a:spcPts val="3801"/>
              </a:spcBef>
              <a:buClr>
                <a:srgbClr val="000000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6" marL="1535040" indent="-201600">
              <a:lnSpc>
                <a:spcPct val="112000"/>
              </a:lnSpc>
              <a:spcBef>
                <a:spcPts val="3801"/>
              </a:spcBef>
              <a:buClr>
                <a:srgbClr val="000000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04480" y="6083280"/>
            <a:ext cx="4519800" cy="1332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133680" y="6616800"/>
            <a:ext cx="3871800" cy="3124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999999"/>
              </a:solidFill>
              <a:latin typeface="Helvetica Neue"/>
            </a:endParaRPr>
          </a:p>
          <a:p>
            <a:pPr lvl="1">
              <a:lnSpc>
                <a:spcPct val="112000"/>
              </a:lnSpc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999999"/>
              </a:solidFill>
              <a:latin typeface="Helvetica Neue"/>
            </a:endParaRPr>
          </a:p>
          <a:p>
            <a:pPr lvl="2">
              <a:lnSpc>
                <a:spcPct val="112000"/>
              </a:lnSpc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999999"/>
              </a:solidFill>
              <a:latin typeface="Helvetica Neue"/>
            </a:endParaRPr>
          </a:p>
          <a:p>
            <a:pPr lvl="3">
              <a:lnSpc>
                <a:spcPct val="112000"/>
              </a:lnSpc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999999"/>
              </a:solidFill>
              <a:latin typeface="Helvetica Neue"/>
            </a:endParaRPr>
          </a:p>
          <a:p>
            <a:pPr lvl="4">
              <a:lnSpc>
                <a:spcPct val="112000"/>
              </a:lnSpc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999999"/>
              </a:solidFill>
              <a:latin typeface="Helvetica Neue"/>
            </a:endParaRPr>
          </a:p>
          <a:p>
            <a:pPr lvl="5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999999"/>
              </a:solidFill>
              <a:latin typeface="Helvetica Neue"/>
            </a:endParaRPr>
          </a:p>
          <a:p>
            <a:pPr lvl="6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343080" y="6883560"/>
            <a:ext cx="6449760" cy="1993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1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2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3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4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5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6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343080" y="6883560"/>
            <a:ext cx="6449760" cy="1993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1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2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3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4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5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6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343080" y="6883560"/>
            <a:ext cx="6449760" cy="1993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1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2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3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4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5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6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343080" y="6883560"/>
            <a:ext cx="6449760" cy="1993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1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2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3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4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5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6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343080" y="6883560"/>
            <a:ext cx="6449760" cy="1993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1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2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3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4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5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6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7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9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7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7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Software%20and%20Data/Data%20Set.xls" TargetMode="External"/><Relationship Id="rId2" Type="http://schemas.openxmlformats.org/officeDocument/2006/relationships/hyperlink" Target="file:///Software%20and%20Data/equator.jar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507960" y="3708360"/>
            <a:ext cx="9144000" cy="1800"/>
          </a:xfrm>
          <a:prstGeom prst="line">
            <a:avLst/>
          </a:prstGeom>
          <a:ln w="936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44240" y="1028520"/>
            <a:ext cx="9271080" cy="247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Keeping the Pizza Hot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44240" y="3924000"/>
            <a:ext cx="9271080" cy="247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A King’s College London mathematics project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unded by the Bowland Trust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4514760" y="1917720"/>
            <a:ext cx="6415200" cy="5905440"/>
          </a:xfrm>
          <a:prstGeom prst="rect">
            <a:avLst/>
          </a:prstGeom>
          <a:ln w="0">
            <a:noFill/>
          </a:ln>
        </p:spPr>
      </p:pic>
      <p:pic>
        <p:nvPicPr>
          <p:cNvPr id="7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723" name=""/>
          <p:cNvSpPr/>
          <p:nvPr/>
        </p:nvSpPr>
        <p:spPr>
          <a:xfrm>
            <a:off x="507960" y="1536840"/>
            <a:ext cx="3809880" cy="1440"/>
          </a:xfrm>
          <a:prstGeom prst="line">
            <a:avLst/>
          </a:prstGeom>
          <a:ln w="936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44600" y="253800"/>
            <a:ext cx="39751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The Pizza Shop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44600" y="1816200"/>
            <a:ext cx="3975120" cy="5130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01600" indent="-201600">
              <a:lnSpc>
                <a:spcPct val="100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A new pizza shop is being opened which will sell pizza for home delivery.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marL="201600" indent="-201600">
              <a:lnSpc>
                <a:spcPct val="100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They wants lots of customers to make a good profit!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" descr=""/>
          <p:cNvPicPr/>
          <p:nvPr/>
        </p:nvPicPr>
        <p:blipFill>
          <a:blip r:embed="rId1"/>
          <a:stretch/>
        </p:blipFill>
        <p:spPr>
          <a:xfrm>
            <a:off x="5089680" y="2286000"/>
            <a:ext cx="5146560" cy="5410080"/>
          </a:xfrm>
          <a:prstGeom prst="rect">
            <a:avLst/>
          </a:prstGeom>
          <a:ln w="0">
            <a:noFill/>
          </a:ln>
        </p:spPr>
      </p:pic>
      <p:pic>
        <p:nvPicPr>
          <p:cNvPr id="7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728" name=""/>
          <p:cNvSpPr/>
          <p:nvPr/>
        </p:nvSpPr>
        <p:spPr>
          <a:xfrm>
            <a:off x="507960" y="1536840"/>
            <a:ext cx="3809880" cy="1440"/>
          </a:xfrm>
          <a:prstGeom prst="line">
            <a:avLst/>
          </a:prstGeom>
          <a:ln w="936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44600" y="253800"/>
            <a:ext cx="39751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Home delivery pizzas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44600" y="1816200"/>
            <a:ext cx="3975120" cy="5130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01600" indent="-201600">
              <a:lnSpc>
                <a:spcPct val="100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The home delivery pizza market is very competitive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marL="201600" indent="-201600">
              <a:lnSpc>
                <a:spcPct val="100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Customers will have to like the product, but have other demands too.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marL="201600" indent="-201600">
              <a:lnSpc>
                <a:spcPct val="100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They may be concerned about speed of delivery and they will be concerned about the condition in which the pizza arrives.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" descr=""/>
          <p:cNvPicPr/>
          <p:nvPr/>
        </p:nvPicPr>
        <p:blipFill>
          <a:blip r:embed="rId1"/>
          <a:stretch/>
        </p:blipFill>
        <p:spPr>
          <a:xfrm>
            <a:off x="-114480" y="92160"/>
            <a:ext cx="10858680" cy="5770440"/>
          </a:xfrm>
          <a:prstGeom prst="rect">
            <a:avLst/>
          </a:prstGeom>
          <a:ln w="0">
            <a:noFill/>
          </a:ln>
        </p:spPr>
      </p:pic>
      <p:pic>
        <p:nvPicPr>
          <p:cNvPr id="7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733" name=""/>
          <p:cNvSpPr/>
          <p:nvPr/>
        </p:nvSpPr>
        <p:spPr>
          <a:xfrm>
            <a:off x="5892840" y="6234120"/>
            <a:ext cx="1440" cy="1112760"/>
          </a:xfrm>
          <a:prstGeom prst="line">
            <a:avLst/>
          </a:prstGeom>
          <a:ln w="936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104480" y="6083280"/>
            <a:ext cx="4521240" cy="1333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121440" y="6273720"/>
            <a:ext cx="3873600" cy="992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Helvetica Neue"/>
              </a:rPr>
              <a:t>The scooters get the pizza to the customer very fast, but is it still good to eat?</a:t>
            </a:r>
            <a:endParaRPr b="0" lang="en-US" sz="20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737" name=""/>
          <p:cNvSpPr/>
          <p:nvPr/>
        </p:nvSpPr>
        <p:spPr>
          <a:xfrm>
            <a:off x="507960" y="1536840"/>
            <a:ext cx="3809880" cy="1440"/>
          </a:xfrm>
          <a:prstGeom prst="line">
            <a:avLst/>
          </a:prstGeom>
          <a:ln w="936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44600" y="253800"/>
            <a:ext cx="39751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Home delivery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44600" y="1816200"/>
            <a:ext cx="3975120" cy="5130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01600" indent="-201600">
              <a:lnSpc>
                <a:spcPct val="100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Pizza packaging is big business and there are lots of different types to choose from if you run a pizza business.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marL="201600" indent="-201600">
              <a:lnSpc>
                <a:spcPct val="100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The pizzas have to be kept safe and warm on their way to the customer.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pic>
        <p:nvPicPr>
          <p:cNvPr id="740" name="" descr=""/>
          <p:cNvPicPr/>
          <p:nvPr/>
        </p:nvPicPr>
        <p:blipFill>
          <a:blip r:embed="rId2"/>
          <a:stretch/>
        </p:blipFill>
        <p:spPr>
          <a:xfrm>
            <a:off x="4973760" y="1428840"/>
            <a:ext cx="5427720" cy="623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1" name="" descr=""/>
          <p:cNvPicPr/>
          <p:nvPr/>
        </p:nvPicPr>
        <p:blipFill>
          <a:blip r:embed="rId1"/>
          <a:stretch/>
        </p:blipFill>
        <p:spPr>
          <a:xfrm>
            <a:off x="4876920" y="1405080"/>
            <a:ext cx="5222880" cy="6298920"/>
          </a:xfrm>
          <a:prstGeom prst="rect">
            <a:avLst/>
          </a:prstGeom>
          <a:ln w="0">
            <a:noFill/>
          </a:ln>
        </p:spPr>
      </p:pic>
      <p:pic>
        <p:nvPicPr>
          <p:cNvPr id="7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743" name=""/>
          <p:cNvSpPr/>
          <p:nvPr/>
        </p:nvSpPr>
        <p:spPr>
          <a:xfrm>
            <a:off x="507960" y="1536840"/>
            <a:ext cx="3809880" cy="1440"/>
          </a:xfrm>
          <a:prstGeom prst="line">
            <a:avLst/>
          </a:prstGeom>
          <a:ln w="936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3975120" cy="1092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Quality on delivery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44600" y="1816200"/>
            <a:ext cx="3975120" cy="4843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01600" indent="-201600">
              <a:lnSpc>
                <a:spcPct val="100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If the pizza arrives cold then this customer will look elsewhere!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marL="201600" indent="-201600">
              <a:lnSpc>
                <a:spcPct val="100000"/>
              </a:lnSpc>
              <a:spcBef>
                <a:spcPts val="1536"/>
              </a:spcBef>
              <a:buClr>
                <a:srgbClr val="747474"/>
              </a:buClr>
              <a:buFont typeface="Helvetica Neu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THE PROBLEM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marL="201600" indent="-201600">
              <a:lnSpc>
                <a:spcPct val="100000"/>
              </a:lnSpc>
              <a:spcBef>
                <a:spcPts val="1536"/>
              </a:spcBef>
              <a:buClr>
                <a:srgbClr val="747474"/>
              </a:buClr>
              <a:buFont typeface="Helvetica Neu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You have been contracted as consultants to the business to help answer the problem: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1" marL="506520" indent="-203400">
              <a:lnSpc>
                <a:spcPct val="100000"/>
              </a:lnSpc>
              <a:spcBef>
                <a:spcPts val="1536"/>
              </a:spcBef>
              <a:buClr>
                <a:srgbClr val="747474"/>
              </a:buClr>
              <a:buFont typeface="Helvetica Neu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f3f3f"/>
                </a:solidFill>
                <a:latin typeface="Helvetica Neue"/>
              </a:rPr>
              <a:t>How large an area can the business deliver its pizzas to?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1" marL="506520" indent="-203400">
              <a:lnSpc>
                <a:spcPct val="100000"/>
              </a:lnSpc>
              <a:spcBef>
                <a:spcPts val="1536"/>
              </a:spcBef>
              <a:buClr>
                <a:srgbClr val="747474"/>
              </a:buClr>
              <a:buFont typeface="Helvetica Neu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f3f3f"/>
                </a:solidFill>
                <a:latin typeface="Helvetica Neue"/>
              </a:rPr>
              <a:t>How can the pizza shop maximise its potential customer base?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/>
          <p:nvPr/>
        </p:nvSpPr>
        <p:spPr>
          <a:xfrm>
            <a:off x="0" y="0"/>
            <a:ext cx="5079960" cy="762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Helvetica Neue Light"/>
              </a:rPr>
              <a:t>The Experiment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44240" y="1816200"/>
            <a:ext cx="3973320" cy="580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80880" indent="-38088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747474"/>
                </a:solidFill>
                <a:latin typeface="Helvetica Neue"/>
              </a:rPr>
              <a:t>Watch videos of the experiment being conducted.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marL="380880" indent="-38088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747474"/>
                </a:solidFill>
                <a:latin typeface="Helvetica Neue"/>
              </a:rPr>
              <a:t>The experiment with silver foil.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marL="380880" indent="-38088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747474"/>
                </a:solidFill>
                <a:latin typeface="Helvetica Neue"/>
              </a:rPr>
              <a:t>Detailed experiment graph.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marL="380880" indent="-38088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747474"/>
                </a:solidFill>
                <a:latin typeface="Helvetica Neue"/>
              </a:rPr>
              <a:t>The taste test.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marL="380880" indent="-38088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 u="sng">
                <a:solidFill>
                  <a:srgbClr val="ccccff"/>
                </a:solidFill>
                <a:uFillTx/>
                <a:latin typeface="Helvetica Neue"/>
                <a:hlinkClick r:id="rId1"/>
              </a:rPr>
              <a:t>Open</a:t>
            </a:r>
            <a:r>
              <a:rPr b="0" lang="en-GB" sz="2000" spc="-1" strike="noStrike">
                <a:solidFill>
                  <a:srgbClr val="747474"/>
                </a:solidFill>
                <a:latin typeface="Helvetica Neue"/>
              </a:rPr>
              <a:t> a complete data set in Excel format.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marL="380880" indent="-38088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 u="sng">
                <a:solidFill>
                  <a:srgbClr val="ccccff"/>
                </a:solidFill>
                <a:uFillTx/>
                <a:latin typeface="Helvetica Neue"/>
                <a:hlinkClick r:id="rId2"/>
              </a:rPr>
              <a:t>Run</a:t>
            </a:r>
            <a:r>
              <a:rPr b="0" lang="en-GB" sz="2000" spc="-1" strike="noStrike">
                <a:solidFill>
                  <a:srgbClr val="747474"/>
                </a:solidFill>
                <a:latin typeface="Helvetica Neue"/>
              </a:rPr>
              <a:t> Equator software.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49" name=""/>
          <p:cNvSpPr/>
          <p:nvPr/>
        </p:nvSpPr>
        <p:spPr>
          <a:xfrm>
            <a:off x="507960" y="1536840"/>
            <a:ext cx="3809880" cy="1440"/>
          </a:xfrm>
          <a:prstGeom prst="line">
            <a:avLst/>
          </a:prstGeom>
          <a:ln w="936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50" name="" descr=""/>
          <p:cNvPicPr/>
          <p:nvPr/>
        </p:nvPicPr>
        <p:blipFill>
          <a:blip r:embed="rId3"/>
          <a:stretch/>
        </p:blipFill>
        <p:spPr>
          <a:xfrm>
            <a:off x="5654520" y="1292400"/>
            <a:ext cx="3870360" cy="5759280"/>
          </a:xfrm>
          <a:prstGeom prst="rect">
            <a:avLst/>
          </a:prstGeom>
          <a:ln w="0">
            <a:noFill/>
          </a:ln>
        </p:spPr>
      </p:pic>
      <p:sp>
        <p:nvSpPr>
          <p:cNvPr id="751" name=""/>
          <p:cNvSpPr/>
          <p:nvPr/>
        </p:nvSpPr>
        <p:spPr>
          <a:xfrm>
            <a:off x="4359240" y="3090960"/>
            <a:ext cx="216000" cy="215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2" name=""/>
          <p:cNvSpPr/>
          <p:nvPr/>
        </p:nvSpPr>
        <p:spPr>
          <a:xfrm>
            <a:off x="4359240" y="4675320"/>
            <a:ext cx="216000" cy="215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3" name=""/>
          <p:cNvSpPr/>
          <p:nvPr/>
        </p:nvSpPr>
        <p:spPr>
          <a:xfrm>
            <a:off x="4359240" y="3954600"/>
            <a:ext cx="216000" cy="215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ris Olley</cp:lastModifiedBy>
  <dcterms:modified xsi:type="dcterms:W3CDTF">2008-04-03T08:12:11Z</dcterms:modified>
  <cp:revision>11</cp:revision>
  <dc:subject/>
  <dc:title>Keeping the Pizza Hot</dc:title>
</cp:coreProperties>
</file>